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052-C5CB-46C5-B445-02634573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E01-CCC3-49C3-838D-6FF56A3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60E-5884-4900-B387-D284EFBB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FEC-0E87-451E-A7E7-11BAD0B2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FC5-0F19-4410-881D-A1055FE0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C10-6E47-44AF-8D45-5A9BC2C5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F82-AA55-4D63-B7D8-268931A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BD4-32EA-4589-AD24-E8A5EC79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5EE-ED4C-48C2-AD63-B7E904F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0B6-66F4-4779-A144-E026198D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677-AF7E-409E-A6CF-745FC73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39A-266C-4D36-B198-B934ABF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AC8-4C95-4828-9071-C684C310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8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shey Ki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your taste buds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4000"/>
                </a:solidFill>
                <a:latin typeface="Arial"/>
              </a:rPr>
              <a:t>Chocolicio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Hard on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And sweet on the in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Makes everyone happy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23524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42416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934400" y="304920"/>
            <a:ext cx="120960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hecke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ffb"/>
                </a:solidFill>
                <a:latin typeface="Cooper Black"/>
              </a:rPr>
              <a:t>Kiss, </a:t>
            </a:r>
            <a:r>
              <a:rPr b="0" lang="en-US" sz="4400" spc="-1" strike="noStrike">
                <a:solidFill>
                  <a:srgbClr val="ff9ffb"/>
                </a:solidFill>
                <a:latin typeface="Cooper Black"/>
              </a:rPr>
              <a:t>Kiss</a:t>
            </a:r>
            <a:r>
              <a:rPr b="0" lang="en-US" sz="4000" spc="-1" strike="noStrike">
                <a:solidFill>
                  <a:srgbClr val="ff9ffb"/>
                </a:solidFill>
                <a:latin typeface="Cooper Black"/>
              </a:rPr>
              <a:t>, </a:t>
            </a:r>
            <a:r>
              <a:rPr b="0" lang="en-US" sz="5400" spc="-1" strike="noStrike">
                <a:solidFill>
                  <a:srgbClr val="ff9ffb"/>
                </a:solidFill>
                <a:latin typeface="Cooper Black"/>
              </a:rPr>
              <a:t>Ki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227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270a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2270a"/>
                </a:solidFill>
                <a:latin typeface="Arial"/>
              </a:rPr>
              <a:t>A sweet tooth Guarantee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63800" y="1600200"/>
            <a:ext cx="34164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63800" y="1600200"/>
            <a:ext cx="3416400" cy="3657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fd0a"/>
                </a:solidFill>
                <a:latin typeface="Arial"/>
              </a:rPr>
              <a:t>HERSHEY KI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rshey kisses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 ah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reat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mmm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’s good can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008c"/>
                </a:solidFill>
                <a:latin typeface="Arial"/>
              </a:rPr>
              <a:t>t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You can make delicious bites from Hershey kisses for any occ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Family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Or anytime you feel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fd0a"/>
                </a:solidFill>
                <a:latin typeface="Arial"/>
              </a:rPr>
              <a:t>Flav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40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0055"/>
                </a:solidFill>
                <a:latin typeface="Arial"/>
              </a:rPr>
              <a:t>Dark Straw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100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0085"/>
                </a:solidFill>
                <a:latin typeface="Arial"/>
              </a:rPr>
              <a:t>Dar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d00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012"/>
                </a:solidFill>
                <a:latin typeface="Arial"/>
              </a:rPr>
              <a:t>Candy-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e6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68b"/>
                </a:solidFill>
                <a:latin typeface="Arial"/>
              </a:rPr>
              <a:t>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6a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aa11"/>
                </a:solidFill>
                <a:latin typeface="Arial"/>
              </a:rPr>
              <a:t>Car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206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0609"/>
                </a:solidFill>
                <a:latin typeface="Arial"/>
              </a:rPr>
              <a:t>Milk C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ugs(Milk chocolate and white choco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005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990720" cy="74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1219320" cy="76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922320" cy="70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824040" cy="72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00400" y="3657600"/>
            <a:ext cx="990720" cy="8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4419720"/>
            <a:ext cx="711000" cy="609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shey Kis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chocolaty taste you always c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8:29:06Z</dcterms:created>
  <dc:creator>Educational Technology</dc:creator>
  <dc:description/>
  <dc:language>en-US</dc:language>
  <cp:lastModifiedBy>Educational Technology</cp:lastModifiedBy>
  <dcterms:modified xsi:type="dcterms:W3CDTF">2007-05-23T13:17:22Z</dcterms:modified>
  <cp:revision>5</cp:revision>
  <dc:subject/>
  <dc:title>Hershey Kisses</dc:title>
</cp:coreProperties>
</file>